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3C41-23E8-46DC-B2B2-2B4C303EE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8976-1EE4-4692-AC5F-36986EB3F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31F1-954A-4019-9D0A-252995CAB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A458F-27C4-4B54-A7BF-4C83506AE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E3707-B45F-475A-A9D3-C8BA4406095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9D7EE-F8A0-4CF8-992F-8A2A75FF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E530AC-8190-419F-BDF8-E8C488EA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3FC466-0C76-4DF5-82DC-0B1EA7B5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F04741-0164-4A46-89FC-A71095DB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A7D9A-4EDB-45C9-A023-8D006ED2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746A4E-8EC3-46FC-83F7-A8EC2B87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4DCB42-CC18-468A-A472-081B3047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F5E80-AD3A-4F27-B89F-8270B20A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484CC9-722E-4BA0-98BF-7362305F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7B07A0-8F02-4FAF-9D8B-CD8639A1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2F7A4-0619-4179-B2AE-540A6DE2E4D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319EB8-3A6B-4C41-AA92-EA564ECE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584B05-2E36-415C-BAEB-6AB72A4D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C898E9-3A6D-4E24-91EB-625BDB02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A5AFAA-42DB-4BEC-8795-CC5FDAC6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B35205-9D9A-42A8-A6FC-8600676F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2558DC-4D2B-42D0-A643-3763C459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63049B-146D-4E24-820E-190AFC4B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04A4B3-F1D0-4EB7-A1AB-564C5AB6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24554D-A9D8-4D12-AAD2-1B2B310D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7780C-4BCC-4BA7-85F6-2B5760CD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10E23-5B93-4130-AAD4-88445994931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59565-7593-40B2-8328-003C0533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C4DA86-A3CC-4DAF-90BB-C1EE3F93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96EBDA-4C78-4FE1-B8EB-6BB861A2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A836DE-589A-4130-8503-94078DEC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88994B-5504-45DD-80D0-B656F7E8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47AAA5-D2AF-49F4-B7A4-8CE3BDFE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CCE6E5-3194-4CF0-8F6C-3901FFE0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3AEA10-F700-4BEC-9463-8D4DD5AF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D062F0-6893-483E-B89C-C4B96185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603F2B-A00B-422E-9AE0-FBC58009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E3BE3-1F18-4E12-8AFB-25A491C9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8FE58D-A48B-4C62-AA87-26C4B529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368B71-5BAD-4526-A1DD-98D0C880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73B35E-81DC-4763-A44E-AD4EC46E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660F22-8767-4AD4-84C7-7A2DB214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26B378-F7DA-4BE0-8EE1-CD40E495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AA38D6-95E9-4D87-905D-CE587C2F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3390A6-ED0C-4BB0-9A04-E6CA001F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C6B280-E47C-43BA-8D1B-D92F4F91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B3A994-D543-42D3-9BB9-4D0C0582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78B80C-EEE4-4594-A4C1-5B7EEE86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962CA-924E-4E87-B6C8-7B8BA989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23464C-B527-47AF-AA2A-532DB17D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1DD839-0FA8-4539-B219-55518C8B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1C94EC-0D2A-47C3-B368-837643FB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03F2D5-2B82-4A13-A9C0-1C7CFE51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95A302-0B40-4D7D-B2B8-99A87CA9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C7517-F50D-4CD1-9C92-FDFBE928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2BEFC-4B0F-4C1F-8434-C3A3BB17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B0BE4-77F9-494A-95AC-E67989DF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0C0D8-0F82-4094-A672-B7D554D8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30922-3AD8-44D8-82DA-54B96671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F09E5-FDF1-4031-9FC5-14E76E31C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11505-ECBF-4316-A533-D2E8A55F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49FEE-6027-4BF7-AAC6-E403A2F7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0A0DE-C664-4295-9B1D-C609D936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82538-DD02-4738-AADB-E3615AF3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C3D0D-3761-49AB-8109-BA8BD583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1AD54A-EAFA-4EB3-AF6C-7AE78A0E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8DA9A4-ED2B-46F8-B5F6-0A53C4C5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89A9AD-22F5-4D38-B118-34956A86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E42C45-B9B2-4AE1-AA1A-37233752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73AD04-BE91-4B75-BDED-1DEF3EB0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90EF6-D717-43C4-B218-A82B315018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12F4C9-F88F-4CB8-BB30-083015FE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4C9846-E94C-4A2F-9252-0A6380A5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8944EA-B43A-4B3E-B1F2-C0EEDF01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727892-DFD3-492B-B0D9-9A954361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5D5921-EC4C-4229-A580-FE8CFAC9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E7B703-5A33-458C-9F2B-17EB66C5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097E8C-6F8A-4180-94C5-376FA1DF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E6E296-F076-4DAB-B1B8-3B1DBC9A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94DB54-A42D-4BF1-A1E4-0698EAD3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8DB557-B457-4EF8-8CE0-4C914149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14D04-CF88-4D62-9BEB-B223BE26274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05D11E-7CEB-4132-BE0F-655AF1CE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EB4578-ADF8-44A2-A0BB-2B20EC55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6CD92F-2DC0-445C-9ABA-C4A6DDE3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CBBE79-4C03-49EF-A1E2-1F24E103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EA5649-83F4-444D-86F4-B7FF99A6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CB4857-23CC-40B0-9DF1-CBC53F18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FD332D-3258-4E76-A18D-BD07C93E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84221E-9C1F-46EC-8A86-ABFED04E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8C870E-CBD6-4C0F-85E2-75148255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935CBC-D638-4988-8944-EEBF7C4E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9EE5D-002F-4D2E-9724-903F6464F53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1D2981-1918-41EE-AF50-FD0531A4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2353A0-23FE-4640-8F98-AD914706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400F0F-071D-47B7-B8E5-FB02C454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B63B6F-09FA-4242-B45D-D85BEC8F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9ED30E-8419-444D-AD15-4DDB8427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707DAA-7E96-4324-AC8E-2BD8D738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433F2F-42D4-4DAE-8822-6842D9D9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CB4223-EF39-4BC8-8CEE-EDA1C4EA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D7876C-DB45-4B9D-B62A-5C6B789A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1D72D5-EF57-4657-B325-ABD247AC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DBCC0-F6E6-4538-BAAC-A05F65E96B2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0B0C85-81BE-4E66-BFD7-51901626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9E4F96-5C9D-4456-BD15-74DCE868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4153B9-1859-4A4F-9CFC-C71574CA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69E4ED-0B01-426B-AD91-265FE140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0DEA2F-FCA5-4F33-AAF9-FE0DA0A4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7D0F98-63B5-4995-BF6A-E348C13D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77F597-02FD-434D-A4C5-C933A5DE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E57EA0-7510-4C7B-8457-E6E61B5D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A4472D-92CA-415D-94BF-7DD02B55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3252FB-226C-4226-B79E-AE339042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FB85D-BA18-4D37-90B1-EECD96D5FB5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4397E6-374D-4AE8-A149-0C4D9B4B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526767-26F6-40F5-B283-4197D912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DF7D15-7BAA-4565-B189-8BA47326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840D03-9D18-4B72-82FD-8770D4A1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13C2D2-EC72-4638-9BD3-3032BF4C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A014EB-3C88-4F3E-B2E9-DA30A196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05F03D-7B1B-49C0-A72F-91BF99AD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251C74-CDC7-40B2-B6E2-204A3875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E273C2-7677-4921-A097-3C4AB785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69F756-76DA-4D20-AF96-B00E91C6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3F8DE-C48F-4376-9905-0C673E2BB8F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83D64F-66F6-45E9-B427-E1FD0429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D363B2-E100-41FE-8732-632DEF4A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A414B9-4B8D-4645-8EA3-39890130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1E8A72-7EDC-459F-8C1B-1B791D4A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D0A525-C4E6-4818-A041-F1058B5C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FE177F-F863-497F-B517-08EE1404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DE44F6-7309-4021-A750-054BD06A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CF41A1-A4AE-4D72-8F7C-3B8A58D4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080223-F615-4CDD-8FFF-8CA500A8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5FE357-47C9-474E-9ACF-1FF62932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43276-BB32-4B96-B346-AD14622C4D9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45FD8F-5345-4826-98D2-7F7E544B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8F0462-0ECE-4258-B19B-7E17D8CC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01EF21-ACEC-42F7-AD4F-F0FF3AD5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013DFC-6F62-484E-BA35-9A7B054C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96EAAD-9B67-4820-A3C2-DF2B7140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763DA3-DB2C-407D-B841-798A663E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0C3A13-E734-4B48-89C8-BD839544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BB31E9-9EE6-4EEB-8E8D-8D75EECB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D3998-640D-45F8-A2AB-4BFF7A8D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171A1D-2B1D-4C47-AFC9-67D9A9EB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EEBC-3CA6-4ED7-91CD-49D80F1184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7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2A93-8418-4182-97E7-9724E24397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D6DD-B182-4A47-974A-63422FCD002A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7BA6-218C-4BCB-857A-0B98C99929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1057-E0E9-4146-9B52-3E0B8C333BE8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22AD-5080-4C18-8586-CEDEECF9F2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BF70-B1AA-4D80-91FB-BDEB4FA87DBD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FED8-7D2F-4B57-8573-905D8BA23F73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9E7C-700F-46D9-8156-A4F859556F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6BD3-0F23-4CC3-A835-8177F4E1C7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5A40-64FD-496E-9DFA-988B0B4B3521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C5AE-B6C3-458A-A5E5-7867F2AD7B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13A2-C244-4618-967C-5E15C2C3B1F0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30E7-1C9F-4E12-A766-307F45A4C2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EFBF-BE67-4345-AFC8-61763F44F6C8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D24E-3077-4258-BE70-31A93378AE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BF3C-FA29-4830-BD41-68C2CA303F0C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C355-F4C4-4659-BCE3-91A7E1F4CA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D346-49DF-4403-B1BB-10CA581843A2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0E28-2124-49E1-9D48-0F3EF440BB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26E8-0FD5-476B-9CBB-353D840CA029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2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6C09-9CCB-45B0-AF8F-71164125B1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0CE5-9892-43C9-A3C8-344903B7003D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320F-1FEF-4754-BE9F-68441796A9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мер контрольного списка для инструкта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Document"/>
          <p:cNvSpPr/>
          <p:nvPr/>
        </p:nvSpPr>
        <p:spPr>
          <a:xfrm>
            <a:off x="1371600" y="1447920"/>
            <a:ext cx="6553080" cy="51051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курсия по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ь нового сотрудника руково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ление с оснащением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равила в отношении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управления качеством в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ая инстр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4"/>
          <p:cNvSpPr/>
          <p:nvPr/>
        </p:nvSpPr>
        <p:spPr>
          <a:xfrm>
            <a:off x="1523880" y="1523880"/>
            <a:ext cx="6324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НАЧ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ОС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0A08-7551-4590-9483-909E2302FA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838080" y="1419120"/>
            <a:ext cx="792504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Аттестация работы сотрудника может выявить больше возможностей для улуч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для самой лаборатор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чем для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6" descr="MCj04260720000[1]"/>
          <p:cNvPicPr/>
          <p:nvPr/>
        </p:nvPicPr>
        <p:blipFill>
          <a:blip r:embed="rId1"/>
          <a:stretch/>
        </p:blipFill>
        <p:spPr>
          <a:xfrm>
            <a:off x="512640" y="533520"/>
            <a:ext cx="1239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F711-900E-4AE6-92E4-B464390417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Квалификация и </a:t>
            </a:r>
            <a:br>
              <a:rPr sz="3400"/>
            </a:b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должностные инструк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609480" y="136044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лаборатории должно име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сех сотрудников должностные инструкции, которые описывают квалификацию и обязанност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Verdana"/>
              </a:rPr>
              <a:t>ИСО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09480" y="3276720"/>
            <a:ext cx="381024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дипломы и сертиф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пройден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й опыт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4724280" y="3276720"/>
            <a:ext cx="41148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распределение полномо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ответственность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бяз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иерархия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609480" y="2438280"/>
            <a:ext cx="38102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вал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4724280" y="2438280"/>
            <a:ext cx="411480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Должностная инстру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D6D3-4B4A-4757-B142-E94D82C53C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верх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457200" y="1905120"/>
          <a:ext cx="8271000" cy="4297320"/>
        </p:xfrm>
        <a:graphic>
          <a:graphicData uri="http://schemas.openxmlformats.org/drawingml/2006/table">
            <a:tbl>
              <a:tblPr/>
              <a:tblGrid>
                <a:gridCol w="3276720"/>
                <a:gridCol w="838080"/>
                <a:gridCol w="117360"/>
                <a:gridCol w="990720"/>
                <a:gridCol w="533520"/>
                <a:gridCol w="2514600"/>
              </a:tblGrid>
              <a:tr h="36180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ь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ая процед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 процед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тение руководства по выполнению процед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 в журнале регистрации прочтения руко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щееся 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ратное место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готовление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времен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B3AA-166B-4866-A5C2-467FC79E5B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457200" y="1752480"/>
          <a:ext cx="8229600" cy="443412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152280"/>
                <a:gridCol w="533520"/>
                <a:gridCol w="2971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рна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уется повторное обучение для восполнения пробел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752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уемые действ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ную оценку провести чере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_____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4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2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ый сотруд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иж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C2C3-302A-4296-AB42-C7B57CC835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Оценка компете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304920" y="1371600"/>
            <a:ext cx="8610480" cy="502920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304920" y="1371600"/>
          <a:ext cx="8610480" cy="4511520"/>
        </p:xfrm>
        <a:graphic>
          <a:graphicData uri="http://schemas.openxmlformats.org/drawingml/2006/table">
            <a:tbl>
              <a:tblPr/>
              <a:tblGrid>
                <a:gridCol w="1143000"/>
                <a:gridCol w="838080"/>
                <a:gridCol w="1447920"/>
                <a:gridCol w="1143000"/>
                <a:gridCol w="1218960"/>
                <a:gridCol w="281952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регистрации оценок компетен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 больниц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оратория микробиоло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тес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аска по Гра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ки были расположены слишком близко; повторить оценку через 14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флаконов для культивирования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ифугирова-ние кле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автокл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ошибки при вводе данных. Прочитать руководство и повторить оценку через 10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B748-AB49-4A45-9C21-129B27DDED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380880" y="1447920"/>
            <a:ext cx="4114800" cy="45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руководств по выполнению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обновленных руково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учение, предоставляемое производителями оборудова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4572000" y="1752480"/>
            <a:ext cx="4267080" cy="45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фе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мин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ьный кл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ы и литератур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>
            <a:off x="4648320" y="609480"/>
            <a:ext cx="4267080" cy="9471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должение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8" descr="MCBS00263_0000[1]"/>
          <p:cNvPicPr/>
          <p:nvPr/>
        </p:nvPicPr>
        <p:blipFill>
          <a:blip r:embed="rId2"/>
          <a:stretch/>
        </p:blipFill>
        <p:spPr>
          <a:xfrm>
            <a:off x="285264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664" name="WordArt 20"/>
          <p:cNvSpPr txBox="1"/>
          <p:nvPr/>
        </p:nvSpPr>
        <p:spPr>
          <a:xfrm>
            <a:off x="300996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Руководство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DFC7-056B-472B-AA25-194ABE8C93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146B-9025-45C8-A2CE-15BE3A1F61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Verdana"/>
              </a:rPr>
              <a:t>Ресурсы для обу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457200" y="1295280"/>
            <a:ext cx="41148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бственные 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итет по обеспечению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ские сес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томорф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трудники подразделения контроля инфе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идеми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800600" y="1295280"/>
            <a:ext cx="41148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перты-инспекто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учные обществ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мирная организация здравоо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ы по контролю и профилактике заболеваний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и, разрабатывающие станд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7" descr="MPj04010010000[1]"/>
          <p:cNvPicPr/>
          <p:nvPr/>
        </p:nvPicPr>
        <p:blipFill>
          <a:blip r:embed="rId1"/>
          <a:stretch/>
        </p:blipFill>
        <p:spPr>
          <a:xfrm>
            <a:off x="2438280" y="4341960"/>
            <a:ext cx="199404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A7B8-9166-41C3-AEAB-16522BB807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609480" y="1295280"/>
            <a:ext cx="6858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здоровье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личные вопросы, отвлекающие от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допо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верная или неполн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4D5D-E0F5-45D9-A935-87FDAB8DE2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457200" y="1143000"/>
            <a:ext cx="762012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истем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отвлечения на рабочем 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чрезмерная рабочая нагру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лохой инструк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достаточн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 проводится оценка компет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ложные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ОП отсутствует или устар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однозначная С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2:32:39Z</dcterms:modified>
  <cp:revision>232</cp:revision>
  <dc:subject/>
  <dc:title>Slide 1</dc:title>
</cp:coreProperties>
</file>